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40F-3204-41FE-8B99-C6A8602E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BEB-D49A-4A51-90A1-40E8E40F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F90-1267-4B72-9B9D-F171DBCA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4C0-5919-42D5-AF41-0B62793B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082-00F7-4F98-A9B9-5CE40A85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2F5-DE31-40FA-9254-1B9702B6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073-047C-4AB2-A04B-D996960B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606-DCA6-4EF6-9827-18EFF2B7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175-C407-4E76-A542-3A900C1F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485-7EB3-4E59-A720-270BEE41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AE1-D429-4EC6-A12F-D7BEFB91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534-C99B-4BDC-9443-C96ADC34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6EDE-A76A-4824-9A93-BB04C73F5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AAS = Atomic Absorption spectrosco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X-Ray Chrystall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method of finding a three-dimensional structure for solids in crystallized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9:37:30Z</dcterms:created>
  <dc:creator>teanmust</dc:creator>
  <dc:description/>
  <dc:language>en-US</dc:language>
  <cp:lastModifiedBy>teanmust</cp:lastModifiedBy>
  <dcterms:modified xsi:type="dcterms:W3CDTF">2011-10-11T10:32:31Z</dcterms:modified>
  <cp:revision>6</cp:revision>
  <dc:subject/>
  <dc:title>Slide 1</dc:title>
</cp:coreProperties>
</file>