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FE3-1751-4549-8A13-085DAAA0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7A5-AFC4-4594-B74B-95D52D2C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BD4-DED0-4F27-B82A-B41E24C0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6E7-33B4-4537-B070-9948EFC8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DA1-6AA2-41FE-A7E8-E6EAEBA2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B2E-D8BD-4904-8AF9-C4A73239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B9C-D181-4118-9503-97153163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C86-47CC-4FAA-807E-1B51E0C7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AC72-F1F4-491A-9BFE-54E48E93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D6F8-F6D0-4A1D-8D71-EC68E7AA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B44-63B0-4D59-9772-564E0ECE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39F-1346-4790-AF6D-1F31BE9E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06F1-1E9E-4139-BC39-E27593A1A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AAS = Atomic Absorption spectrosco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X-Ray Chrystall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method of finding a three-dimensional structure for solids in crystallized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9:37:30Z</dcterms:created>
  <dc:creator>teanmust</dc:creator>
  <dc:description/>
  <dc:language>en-US</dc:language>
  <cp:lastModifiedBy>teanmust</cp:lastModifiedBy>
  <dcterms:modified xsi:type="dcterms:W3CDTF">2011-10-11T10:32:31Z</dcterms:modified>
  <cp:revision>6</cp:revision>
  <dc:subject/>
  <dc:title>Slide 1</dc:title>
</cp:coreProperties>
</file>